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602-C9EF-4396-B86C-FA29021A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BD9-ACBA-4DAA-A582-19AA1017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DCB3-78C7-46BD-A533-233655BA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1AFC-5B32-430F-9FF8-EE8C1B334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8C8-8A33-4693-BC6B-D6519BC50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F83-4A9E-4685-95C5-B29EC0A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7E4-527A-4658-834F-FFADA36B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349-0A67-4425-B907-173E6598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CDCB-009F-4AD0-A367-B97196D7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D6B-E946-4B25-A87C-0B76BCB4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FB46-4A98-4FD3-9401-0D58F21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4403-E3F3-428B-8700-4A76C7B6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C82-3D3F-4FD3-91F1-1E9DE584E0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ема само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0040" y="126828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«Компетентный подход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Monotype Corsiva"/>
              </a:rPr>
              <a:t>в воспитании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9680" y="856800"/>
            <a:ext cx="82868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  <a:ea typeface="Times New Roman"/>
              </a:rPr>
              <a:t>Самостоятельность – это качество человека, которое характеризуется сознательным выбором действия и решительностью в его осуществлении. Оно присуще в той или иной степени каждому из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"/>
          <p:cNvSpPr/>
          <p:nvPr/>
        </p:nvSpPr>
        <p:spPr>
          <a:xfrm>
            <a:off x="785880" y="11160"/>
            <a:ext cx="792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9920" y="713880"/>
            <a:ext cx="52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9280" y="9806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 самообразования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личности, которая приобрела бы в процессе развития способность самостоятельно строить свой вариант жизни, стать достойным человеком, дать возможность и создать условия для индивидуального выбора образа жизни, научить её делать этот выбор и находить способы реал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воспит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  Создание и поддержание условий для формирования личностных структур, обеспечивающих высокий уровень развития личностного потенциала и его реализации в будущ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Вовлечение учащегося в систему дополнительного образования с целью обеспечения самореализации лич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  Воспитание учащегося в духе демократии, свободы, личностного достоинства, уважения прав человека, гражданственности, патриот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177300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ущность компетентного подхода в формировании личностных качеств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57176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70c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держание деятельност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литературы по тем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зучение состояния избранной темы в практике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ектирование собственной деятельности по самообразова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ностно-смысловые компетенции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51" name="Picture 4" descr="C:\Users\Admin\Desktop\i (1).jpeg"/>
          <p:cNvPicPr/>
          <p:nvPr/>
        </p:nvPicPr>
        <p:blipFill>
          <a:blip r:embed="rId2"/>
          <a:stretch/>
        </p:blipFill>
        <p:spPr>
          <a:xfrm>
            <a:off x="2627280" y="2205000"/>
            <a:ext cx="470052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7280" y="0"/>
            <a:ext cx="7632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культурные компетенц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C:\Users\Admin\Desktop\i.jpeg"/>
          <p:cNvPicPr/>
          <p:nvPr/>
        </p:nvPicPr>
        <p:blipFill>
          <a:blip r:embed="rId2"/>
          <a:stretch/>
        </p:blipFill>
        <p:spPr>
          <a:xfrm>
            <a:off x="2268360" y="1989000"/>
            <a:ext cx="537228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-познавательные компетенции </a:t>
            </a:r>
            <a:br>
              <a:rPr sz="4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6" descr="C:\Users\Admin\Desktop\img19.jpg"/>
          <p:cNvPicPr/>
          <p:nvPr/>
        </p:nvPicPr>
        <p:blipFill>
          <a:blip r:embed="rId2"/>
          <a:stretch/>
        </p:blipFill>
        <p:spPr>
          <a:xfrm>
            <a:off x="2484360" y="2133720"/>
            <a:ext cx="4591080" cy="36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Users\Admin\Desktop\i.jpeg"/>
          <p:cNvPicPr/>
          <p:nvPr/>
        </p:nvPicPr>
        <p:blipFill>
          <a:blip r:embed="rId2"/>
          <a:stretch/>
        </p:blipFill>
        <p:spPr>
          <a:xfrm>
            <a:off x="3635280" y="2708280"/>
            <a:ext cx="4945320" cy="370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964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компетенц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0040" y="128556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ые компетенци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C:\Users\Admin\Desktop\charm.png"/>
          <p:cNvPicPr/>
          <p:nvPr/>
        </p:nvPicPr>
        <p:blipFill>
          <a:blip r:embed="rId2"/>
          <a:stretch/>
        </p:blipFill>
        <p:spPr>
          <a:xfrm>
            <a:off x="3635280" y="2924280"/>
            <a:ext cx="4403880" cy="354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4:57:21Z</dcterms:created>
  <dc:creator>Admin</dc:creator>
  <dc:description/>
  <dc:language>en-US</dc:language>
  <cp:lastModifiedBy>Admin</cp:lastModifiedBy>
  <dcterms:modified xsi:type="dcterms:W3CDTF">2017-03-26T17:08:28Z</dcterms:modified>
  <cp:revision>56</cp:revision>
  <dc:subject/>
  <dc:title>Слайд 1</dc:title>
</cp:coreProperties>
</file>